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D77-E48E-4514-943B-6CD9AB8D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0F7-FAE9-478A-85E3-1B35F5D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6AE-1D37-4EED-9C12-C8DE3F4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952-5F14-42DA-9D9D-07B1D580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F88-5D53-45A4-A702-788A078D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8BD-D55D-409F-A3BB-447CD306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384-DF18-4DBA-8B00-170C070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8C96-74AA-47A3-8B83-EB8F1447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2CC-7A5C-4E6E-BF96-B3B640E3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6A3-C27B-459A-B93F-0B8C1D43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8C5E-AB59-48C9-9EE2-A102F68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918-CE2B-49C6-A394-7950377F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32F-7AD5-44FC-A979-3F17D5F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AF04-0333-49E2-8A1E-EB16FE9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578-695B-4E92-AB35-C391C0B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F10-F7CB-49E6-8778-03516B29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8E6-A745-4B53-AF08-884EA38F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EE1-E47B-4F70-AE05-38AAA25B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C5D-3E65-4A64-A473-5C4BBFB0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159-5314-4021-9951-693490CE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E59-C346-43EB-A46B-90BB8D70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54B-025D-4C34-A978-2ABFE0B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F77-5179-464E-80BC-EDF05A9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302-A83D-445E-BFB6-0B44D18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E183F-19C6-4BCD-A78E-DC3533F31D9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660C7-8882-41A5-9BAE-0E3CD7DF3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B85C2-4F90-4BB0-961F-E0B0155417F9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BDFD0-6CDA-4139-A216-855342B6A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How to Control Severe Bleeding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80880" y="4267080"/>
            <a:ext cx="5038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5373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Times New Roman"/>
              </a:rPr>
              <a:t>Three ways to control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721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721480"/>
            <a:ext cx="281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63040" y="559908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yce Lari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5867280" y="-7621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9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9bd36"/>
                </a:solidFill>
                <a:latin typeface="Times New Roman"/>
              </a:rPr>
              <a:t>Step On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bdf5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000"/>
                </a:solidFill>
                <a:latin typeface="Times New Roman"/>
              </a:rPr>
              <a:t>Apply direct and steady pressure to the wounded area, and also place a clean cloth on the wound and press down hard. If the blood soaks through the cloth you should add more cloth but do not take the first cloth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30c"/>
                </a:solidFill>
                <a:latin typeface="Times New Roman"/>
              </a:rPr>
              <a:t>Step Tw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66880" y="220968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ee170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110c"/>
                </a:solidFill>
                <a:latin typeface="Times New Roman"/>
              </a:rPr>
              <a:t>If step one did not work after several tries then combine pressure on the wound with pressure on a main artery leading to the wound. You should push on the the pressure point in the artery until you feel 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5292720"/>
            <a:ext cx="175248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ep Thre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4724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step in controlling the bleeding is to elevate the wound above the heart which forces the blood to travel uphill slowing the ble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76320" y="-4095720"/>
            <a:ext cx="922032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3:27Z</dcterms:created>
  <dc:creator>kms kms</dc:creator>
  <dc:description/>
  <dc:language>en-US</dc:language>
  <cp:lastModifiedBy>Kraybill Campus LMS</cp:lastModifiedBy>
  <dcterms:modified xsi:type="dcterms:W3CDTF">2011-05-24T13:11:31Z</dcterms:modified>
  <cp:revision>8</cp:revision>
  <dc:subject/>
  <dc:title>How to Control Severe Bleeding</dc:title>
</cp:coreProperties>
</file>